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FEDDBC-9C18-40FB-86E5-B88A364D10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48F79D-89FB-452D-8EA2-08B49BC3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1C667B-EF32-46ED-BAC3-CDD94CC738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B77393-51C3-4926-8348-8257AB058C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20880" y="4331880"/>
            <a:ext cx="5016240" cy="41194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1162080" y="68904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0CBE4B-F974-48F2-AF10-0F3DFB31A8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0751B6-0BF8-4CBB-A133-CEEBC08893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E4931D-D1DF-417F-8473-B63EA69997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4EA2DF-C228-495A-AD3A-71E3A93A35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1E9D00-B442-4F17-B8BE-EF7E922420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explain how proxies work for estimating, let's look at an example from outside the software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A6BFFC-17D9-40DD-9279-D475EFF3A5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client might have the following requirements for their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C07097-FE70-404F-AA20-0C7603A3E8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builder can use historical data to build this table showing typical room siz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A91BDC-B34D-4724-8DA5-26A0058201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can combine the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sets of information to calculate the estimated area of the client's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uld animate this to fill in the table in stages. Start with the first 2 columns, then add the rest of each row (row 1, row 2, then the rest, with total row as final ste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88243B-47CA-44A9-ABF0-3706452F30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FC2161-09C3-474C-B8F5-0A7F7EE5C4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EEB08D-3DFA-40E9-A323-03F5666CE6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A1F021-AD41-427C-B3D0-8D193BDD7C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E3A75C-B965-4223-961D-B9DD4105B5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FAA70C-2B3F-42EA-9173-038B499A9F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0A1FB7-3A8F-4BE2-85F4-7D3F9A9AA1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6DB2BD-2864-45F2-820A-D03BE65E3A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A6C244-647C-48A5-8328-FC0820C4E8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031E39-2665-4A13-A2E0-EB19D8F7D2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32DB6D-1B0A-46BC-B4DD-326E25CC4D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F48EB4-BE76-4662-ADA5-8777A8D590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943280" y="601560"/>
            <a:ext cx="2759040" cy="20685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D88B80-4673-4075-BB9D-BE9AFB8CCC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9157C4-9048-404B-BE3E-5170D219AA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B9E290-4BC9-46C9-A288-B5E0B7FF66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F27949-3DC4-437E-A19F-2497A76E1B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63520" y="693720"/>
            <a:ext cx="4538880" cy="340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33F8BD-EFA4-4C0B-95C8-3151E28C69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A6480C-CB6F-40DF-AF01-192199EDE2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C11BA6-7310-4989-9DE5-218E2B045B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BA5D83-886F-4BE6-8A03-55F8ED6F0D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C7BDC5-EC8A-43FE-BF15-F20B9035D0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B22C5D-9EBA-4273-8BA7-0425D930E2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F46B93-3310-4D93-B558-5A8F9888E4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573120" y="2786040"/>
            <a:ext cx="5726160" cy="57988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962DD5-B2F6-4A6C-BC4C-60D1C6791E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239F7E-A1B8-4920-8B24-1CF9436F3F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F4CBF3-6374-4F32-85FF-266BF35CD7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3599C5-3E79-4E68-AE3F-8BD23264E9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F2A9A5-B9A9-4A79-ABF3-0F8DB779CA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BFEDF7-43B7-42C7-B0A0-C87A733AF9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996AAE-082E-49A4-9F01-821FA25EC5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D40711-7F70-4135-B45A-AB613A27C6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463410-C4E4-4658-911F-00103D971B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884480"/>
            <a:ext cx="502920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79B2A7-9896-478A-8BBB-BABF2CD3E8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719-A63C-468E-B6F2-AC6C8BB8874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3FE-DD65-407C-A026-66868F0B773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F6E-CB2D-487C-8588-7CFF8FADDC1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50E-642A-4A19-ABA4-17885550C8F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F45-AFB9-4F44-8D47-37B0A9E1156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DEA-5933-447A-B634-71C9FF5057C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9DE-A8FD-4BCE-9A7A-8E3A26440B3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033-94DF-4802-8A7E-B6EDE2BF3C9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2CFC65CD-00A9-4363-9DC8-F73C8BA6D6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Estimating with PROBE 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PRO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the PROBE method to estimate and plan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stands for PROxy Based Estim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uses proxies to estimate program size and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will help you to make accurat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841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E Estimating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6" descr="S11"/>
          <p:cNvPicPr/>
          <p:nvPr/>
        </p:nvPicPr>
        <p:blipFill>
          <a:blip r:embed="rId1"/>
          <a:stretch/>
        </p:blipFill>
        <p:spPr>
          <a:xfrm>
            <a:off x="1365120" y="1622520"/>
            <a:ext cx="633744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estimating step is to make a conceptual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 requirements to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duct elements that will produce the desired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size of what you plan to 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ost projects, the conceptual design can be produced relatively quick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 exercise programs, try to limit your conceptual design time to 10, or at most 20,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 conceptual design, identify the product functions and the program parts needed to produce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effect, you say: “If I had the following parts, I could build this produc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compare these parts to programs you have already written and estimate their siz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combine the part estimates to give tot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 not understand the product well enough to make a conceptual design, you do not know enough to make a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85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oxi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09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ize measures are det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generally hard to visualize product details early in a proje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o estimate until you have the d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your best gu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 suitable prox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856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oxi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07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should correlate closely to development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should be easy to visualize early in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hould also be a physical entity that can be measu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81000" y="9536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uilding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ilder needs to know the floor area (in sq. ft.) to estimate the cost of 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s normally cannot describe their needs in square fe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usually can describe the type and number of rooms they w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rooms as a proxy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historical (typical) data to translate from rooms to square f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Customer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7720" y="1709640"/>
          <a:ext cx="7413480" cy="4592880"/>
        </p:xfrm>
        <a:graphic>
          <a:graphicData uri="http://schemas.openxmlformats.org/drawingml/2006/table">
            <a:tbl>
              <a:tblPr/>
              <a:tblGrid>
                <a:gridCol w="2697120"/>
                <a:gridCol w="4716360"/>
              </a:tblGrid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, 2 medium, and 1 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 and 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3080" y="952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 Build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017720" y="1709640"/>
          <a:ext cx="7416720" cy="4592880"/>
        </p:xfrm>
        <a:graphic>
          <a:graphicData uri="http://schemas.openxmlformats.org/drawingml/2006/table">
            <a:tbl>
              <a:tblPr/>
              <a:tblGrid>
                <a:gridCol w="3249360"/>
                <a:gridCol w="1389240"/>
                <a:gridCol w="1388880"/>
                <a:gridCol w="1389240"/>
              </a:tblGrid>
              <a:tr h="57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9424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874800" y="1579680"/>
          <a:ext cx="7627680" cy="4657680"/>
        </p:xfrm>
        <a:graphic>
          <a:graphicData uri="http://schemas.openxmlformats.org/drawingml/2006/table">
            <a:tbl>
              <a:tblPr/>
              <a:tblGrid>
                <a:gridCol w="2442960"/>
                <a:gridCol w="1776600"/>
                <a:gridCol w="363600"/>
                <a:gridCol w="904680"/>
                <a:gridCol w="625680"/>
                <a:gridCol w="644400"/>
                <a:gridCol w="86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(sq. ft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44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stimate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estimating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estimating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estimating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6040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The Builder’s Estim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estimation step provides the builder with the proxy data for roo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re are many other cost elements in home 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ers typically have extensive data to relate room size to the other building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greed initial plans, builders typically require detailed architectural specifications and estimates before quoting a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856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Product Prox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, functions,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s Proxi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8272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 with developmen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s of classes correlates reasonably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ize correlates very clos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ize can be estimated using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ize estimate is then calculated from the historical relationship between total class size an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good correlation, calculate program size from the relationship between class size an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841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s Proxi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09720" y="1581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lasses are selected as application entities, they can be visualized early in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 and procedures can often be estimated in the sam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, functions, procedures, and their sizes can be automatically coun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92080" y="8316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 LOC Correlation With Development Hou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3"/>
          <p:cNvGraphicFramePr/>
          <p:nvPr/>
        </p:nvGraphicFramePr>
        <p:xfrm>
          <a:off x="628560" y="2120760"/>
          <a:ext cx="73724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120760"/>
                    <a:ext cx="73724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58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Example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67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candi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number of items correlates with development, you estimate the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uitable proxy size measure, you can often estimate proxy si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Pages Versu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"/>
          <p:cNvPicPr/>
          <p:nvPr/>
        </p:nvPicPr>
        <p:blipFill>
          <a:blip r:embed="rId1"/>
          <a:stretch/>
        </p:blipFill>
        <p:spPr>
          <a:xfrm>
            <a:off x="1004760" y="1504800"/>
            <a:ext cx="722016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Elements Versu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"/>
          <p:cNvPicPr/>
          <p:nvPr/>
        </p:nvPicPr>
        <p:blipFill>
          <a:blip r:embed="rId1"/>
          <a:stretch/>
        </p:blipFill>
        <p:spPr>
          <a:xfrm>
            <a:off x="487440" y="1488960"/>
            <a:ext cx="835164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8960" y="8762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53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selected a proxy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prox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 the data for use in 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 to estimate the size of the proxies in the new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proxy estimates into the product est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resource est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project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shows you how to perform thes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585720" y="264960"/>
            <a:ext cx="8555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805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way to estimate i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se planned parts to parts you have already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size of the previously built parts to estimat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this, you need size ranges for the types of parts you typically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oduct type, you also need size ranges to help judge the sizes of the new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87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you to make commitments that you can m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the basis for agreeing on job scope, schedule, an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 progress tracking and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ensure that key tasks are not overloo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C++ Class Size R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017720" y="2100240"/>
          <a:ext cx="7413480" cy="4202280"/>
        </p:xfrm>
        <a:graphic>
          <a:graphicData uri="http://schemas.openxmlformats.org/drawingml/2006/table">
            <a:tbl>
              <a:tblPr/>
              <a:tblGrid>
                <a:gridCol w="1592280"/>
                <a:gridCol w="879480"/>
                <a:gridCol w="1234800"/>
                <a:gridCol w="1235160"/>
                <a:gridCol w="1236600"/>
                <a:gridCol w="1235160"/>
              </a:tblGrid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Text Box 84"/>
          <p:cNvSpPr/>
          <p:nvPr/>
        </p:nvSpPr>
        <p:spPr>
          <a:xfrm>
            <a:off x="2919240" y="1682640"/>
            <a:ext cx="485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Program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homes have square feet that are not in rooms, programs have code that is not in the program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overhead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job, however, must also produce this overhea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of this additional overhead code is usually proportional to the size of the program’s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velopment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ound estimating methods, actual program size will be closely related to estimate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s will be due to the overhead code and the estimating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development time is also often related to estimate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ain, with sound methods, the differences will be largely due to overhead activities and estimating err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ly-Based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uses historical data, linear regression, and the prediction interval to produce estimates of known accura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provides the best fit, or minimum variance, of a line to thes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of the data is used to determine the likely estimatio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reater the variance, the larger the likely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Line for Program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57240" y="1995480"/>
            <a:ext cx="7494480" cy="44146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3903480" y="16905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63120" y="933120"/>
            <a:ext cx="780732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ssion Line for Development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817560" y="1952640"/>
            <a:ext cx="7664400" cy="45226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4"/>
          <p:cNvSpPr/>
          <p:nvPr/>
        </p:nvSpPr>
        <p:spPr>
          <a:xfrm>
            <a:off x="3561840" y="16527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 and Tim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5736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ject a program’s size or development time, find the equation for the regression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use the regression formula to project size and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s the estimated prox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"/>
              <p:cNvSpPr txBox="1"/>
              <p:nvPr/>
            </p:nvSpPr>
            <p:spPr>
              <a:xfrm>
                <a:off x="1585800" y="4324320"/>
                <a:ext cx="52484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difi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velopme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 and Tim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72640" y="1555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regression parameter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data on previously developed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x, use estimated proxy size (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y, use the a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nd modified size for the siz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development time for the tim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wo sets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parameters: one for size and the other fo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47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ng Total Program Siz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program size includes added, modified, deleted, base, and reuse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an existing program, base code is the size of the unmodified existing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programs, include their unmodified size in base code and not in re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base code is a form of reuse, the PSP only counts unmodified code from the reuse library as re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28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Estimat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lete the size estimate, calculate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ed added and modified size with the size regressio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program size, including added, modified, deleted, base, and reused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new reusable code to be added to the reuse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d estimate includes estimated development time calculated with the time regression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5360" y="796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ject Planning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3" descr="S4"/>
          <p:cNvPicPr/>
          <p:nvPr/>
        </p:nvPicPr>
        <p:blipFill>
          <a:blip r:embed="rId1"/>
          <a:stretch/>
        </p:blipFill>
        <p:spPr>
          <a:xfrm>
            <a:off x="958680" y="1620720"/>
            <a:ext cx="77979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Estimat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72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size and time estimates, calculate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upper (UPI) and lower (LPI) prediction intervals for projected 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upper (UPI) and lower (LPI) prediction intervals for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is covered in lecture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estimating with limited data are covered in the PROBE tutorial and discussed further in lecture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17720" y="1709640"/>
          <a:ext cx="5927760" cy="3019680"/>
        </p:xfrm>
        <a:graphic>
          <a:graphicData uri="http://schemas.openxmlformats.org/drawingml/2006/table">
            <a:tbl>
              <a:tblPr/>
              <a:tblGrid>
                <a:gridCol w="2590560"/>
                <a:gridCol w="3337200"/>
              </a:tblGrid>
              <a:tr h="406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program 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 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dditions (B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 parts (P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+197+49 = 361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sed parts (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siz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BA + PA + M = 366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99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with E = 366, use the size regression parameters to calculate the projected size (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Si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62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Si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ed size P = 62 + 1.3 </a:t>
            </a:r>
            <a:r>
              <a:rPr b="0" lang="en-US" sz="22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366 = 538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size T = 538 + 695 - 5 + 169 = 1397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total new reusable = 49 LO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029600" y="5931000"/>
            <a:ext cx="57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dified size is subtracted so it is not included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6930720" cy="104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E = 366, use the time regression parameters to calculate developmen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"/>
              <p:cNvSpPr txBox="1"/>
              <p:nvPr/>
            </p:nvSpPr>
            <p:spPr>
              <a:xfrm>
                <a:off x="1084320" y="2890800"/>
                <a:ext cx="5145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velopme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6" name="Text Box 5"/>
          <p:cNvSpPr/>
          <p:nvPr/>
        </p:nvSpPr>
        <p:spPr>
          <a:xfrm>
            <a:off x="1163520" y="3794040"/>
            <a:ext cx="688356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8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time = 108 + 2.95 </a:t>
            </a:r>
            <a:r>
              <a:rPr b="0" lang="en-US" sz="20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66 = 1186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805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te size estimates will help you to make better development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skill improves with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fined and measured process provides a repeatable basis for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ccurate estimates, you must use historical data and follow sound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shows you how to do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n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82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making the plan, you must have a requir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tter the requirement, the better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ill-defined requirements, expect to make frequent plan upd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are most accurate when based on size estimates and historical dat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ize estimate and historical data,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data on the most similar prio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the resource estimate on thes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8960" y="1541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n uncertain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knows how big the product will 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arlier the estimate, the less is kn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can be biased by business and other pres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n intuitive learning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improves with experience and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eople will be better at estimating tha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 sk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will be grad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never get very g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is to become consis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then understand the variability of your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eek an even balance between under- and over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1000" y="9554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d Estimat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876920" y="1554120"/>
            <a:ext cx="3752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5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6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7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1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2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3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4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5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6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7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8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9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0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1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2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3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4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5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7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8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9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0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1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2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3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4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5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6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7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8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9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0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1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2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3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5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6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7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8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9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0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1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2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3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4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05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6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7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8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9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0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1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2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3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4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5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6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7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8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9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0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1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22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3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4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5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6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7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8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9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0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1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32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33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3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4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4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5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5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5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5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6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57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8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9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0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1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2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3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4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5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66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67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68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69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0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1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2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3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5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6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77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8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79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80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81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2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3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4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85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6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7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8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89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0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91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94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446" name="Freeform 192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3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vantages of using defined estimating methods are tha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known practices that you can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framework for gathering estima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consistently use historical data to produce balanced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58Z</dcterms:modified>
  <cp:revision>153</cp:revision>
  <dc:subject/>
  <dc:title>No Slide Title</dc:title>
</cp:coreProperties>
</file>